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9F02-96B2-4202-B988-27FD36340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dictions between Genesis and geological ag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The Genesis record will not accommodate the standard system of geological 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683640"/>
            <a:ext cx="7925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41806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683640"/>
            <a:ext cx="7925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2076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683640"/>
            <a:ext cx="7925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6608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372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68B2-DB6C-4FB4-8948-FF6DF096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683640"/>
            <a:ext cx="7925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8D3-3A74-4CF0-955A-989C579A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683640"/>
            <a:ext cx="7925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D580-970E-4800-AB88-32A1C416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683640"/>
            <a:ext cx="7925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4400-B0EA-4645-923F-58B41012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683640"/>
            <a:ext cx="7925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1E91-814F-4F63-AE71-91724BB9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79250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E06E-6403-4A33-9894-778014FA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683640"/>
            <a:ext cx="7925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11BE-6BC9-4AA7-B0DA-B2B88B4B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683640"/>
            <a:ext cx="7925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683640"/>
            <a:ext cx="7925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076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BE4C-C1E4-438F-8E75-3B15FB3D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683640"/>
            <a:ext cx="7925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1806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3222-63A9-4401-8ECA-7DCF8665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683640"/>
            <a:ext cx="7925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38080" y="41806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4B33-B0A2-44AA-BC70-0103877A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683640"/>
            <a:ext cx="7925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076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3006-4118-419B-BB2A-4C83817C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683640"/>
            <a:ext cx="7925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3808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6608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372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A5D5-BD96-4F21-A867-669E160A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683640"/>
            <a:ext cx="7925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683640"/>
            <a:ext cx="7925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683640"/>
            <a:ext cx="7925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79250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683640"/>
            <a:ext cx="7925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683640"/>
            <a:ext cx="7925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076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683640"/>
            <a:ext cx="7925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1806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925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5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994440" y="647712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54920" y="655308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@ Dr. Heinz Lycklama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7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0556-9B04-4775-A863-3E8113C1127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heinz@osta.com" TargetMode="External"/><Relationship Id="rId2" Type="http://schemas.openxmlformats.org/officeDocument/2006/relationships/hyperlink" Target="mailto:eheinz@osta.com" TargetMode="External"/><Relationship Id="rId3" Type="http://schemas.openxmlformats.org/officeDocument/2006/relationships/hyperlink" Target="mailto:eheinz@osta.com" TargetMode="External"/><Relationship Id="rId4" Type="http://schemas.openxmlformats.org/officeDocument/2006/relationships/hyperlink" Target="mailto:eheinz@osta.com" TargetMode="External"/><Relationship Id="rId5" Type="http://schemas.openxmlformats.org/officeDocument/2006/relationships/hyperlink" Target="http://www.osta.com/" TargetMode="External"/><Relationship Id="rId6" Type="http://schemas.openxmlformats.org/officeDocument/2006/relationships/hyperlink" Target="http://www.osta.com/" TargetMode="External"/><Relationship Id="rId7" Type="http://schemas.openxmlformats.org/officeDocument/2006/relationships/hyperlink" Target="http://www.osta.com/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14479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mpromising Theori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4266720"/>
            <a:ext cx="54295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Dr. Heinz Lycklam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heinz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osta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www.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osta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.com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5181480"/>
            <a:ext cx="434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he concept of a frog being turned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nto a prince in an instant is a fairy tale,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but the assertion that a frog, given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00 million years, can turn into a man,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s considered science.”  </a:t>
            </a:r>
            <a:r>
              <a:rPr b="0" i="1" lang="en-US" sz="1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r. Duane Gish, IC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925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mpromising Theories -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r. Duane Gish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96120" indent="-44172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he concept of a frog being turned into a prince in an instant is a fairy tale, but the assertion that a frog, given 300 million years, can turn into a man, is considered science.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any “Christians” are so convinced that evolution is true that they feel they need to harmonize the Scriptures with “science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re we willing to change the Scriptures every time a scientific theory is debunked or modified?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me “Harmonizing” Theori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Religious-only theory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- Genesis was written in religious term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uccessive catastrophe theory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- several catastrophes, each followed by a new cre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ocal creation theory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- Genesis only refers to a small area of the earth which God re-creat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925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me “Harmonizing” Theories -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6800" indent="-406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ay-age (divine-age) theory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- each “day” in Genesis is a long geological age, thus interjecting millions/billions of years into the Genesis accou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06800" indent="-406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ictorial (or revelational) day theory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- God revealed to Moses, through visions, what God had created.  Moses then recorded each vision as a da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06800" indent="-406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ap theory (creation/ruination/re-creation theory or restitution theory)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- God created a perfect world, which was consequently destroyed (perhaps because of a war Satan had with God) and then re-created and re-populat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925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ome “Harmonizing” Theories -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ong chaos theory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- “without form and void” may be very long, resulting in a very old eart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ultiple gap theory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- creation took place in 6 literal days, but separated by long periods of orthodox historical ge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odifications of the gap theory 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en. 1:1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does not give a time reference, but that God spent a great deal of time in preparation before the actual 6 days of creation, e.g. all geological phenomen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ich Theory is Correct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6" name="many_theories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403884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Various Creation Theori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wo main type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Judea-Christian and Non Christian creationis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ypes of Judea-Christian Creationism include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Young Earth Creationis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Old Earth Creationism (3 sub-version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15080" indent="-2192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Gap Creationis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315080" indent="-2192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ay-Age Creationis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1315080" indent="-2192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Progressive Creationis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Evolutionary Creationis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eistic Evolutionis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Flat Earth Creationis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eo-Centric Creationis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Young Earth Creationis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nterprets Genesis literally as the basis for its model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arth is between 6,000 and 10,000 years ol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ll life was created in six days (based on the same length of day we use now = 24 hour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eath and decay are a result of Adam &amp; Eve’s fal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eology and geological phenomena are interpreted with respect to the Great Floo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arth is spherical and the heliocentric model is the accurate representation of our solar syste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925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volutionary Creationis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reation did not happen in the sense of physical reality or time as we understand them now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dam and Eve’s Edenic existence and creation occurred on this transcendental plane of realit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 fall from grace resulted in the formation of our material reality and univer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ature and all of its processes are a manifestation of God’s divine wil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ature has no independent existence apart from the divine force behind everyth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istic 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r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ation by continuous evolutionary processes, initiated by Go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od revealed the </a:t>
            </a: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fac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of creation in Scripture, but left the </a:t>
            </a: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method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of creation to be worked out by scientis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ttempt to accept the “fact” of evolu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Recently approved by none other than the Pope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ometimes referred to as “Biblical evolution”, creative evolution, 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Variations on Theistic 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ome see God deriving new forms of life from old on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ome see the hand of God intervening directly in the biology of organisms to create the new speci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ome accept the natural processes of evolutionary biology as explanatory, but believe that the system was preprogrammed to give rise to human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ome believe God intervened in human evolution at some point to bestow a soul (possibly around 30,000 years ago when we see the first clear signs of art &amp; religion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e Pope, and the vast majority of working scientists in America are theistic evolutionist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925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mpromising Theori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enesis 1-11 as our found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istic Evolu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roblems with </a:t>
            </a:r>
            <a:br>
              <a:rPr sz="2800"/>
            </a:b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istic Evolu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rogressive Cre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ay-Age Theo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ap Theo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ther flavors 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2" name="compromises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25905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925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blems With Theistic 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reation of distinct kinds precludes transmutations between kinds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en major </a:t>
            </a:r>
            <a:r>
              <a:rPr b="1" lang="en-US" sz="24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categories/kinds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identified in 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enesis 1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(“after his </a:t>
            </a:r>
            <a:r>
              <a:rPr b="1" lang="en-US" sz="24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kind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”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 Cor. 15:38,39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“... one </a:t>
            </a:r>
            <a:r>
              <a:rPr b="1" lang="en-US" sz="24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kind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of flesh of men, another flesh of beasts ...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o concept of evolutionary continuit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oo many missing fossil link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utations appear to be undirect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Humans are modified animals, rather than created in God’s imag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9907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ological Contradictio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6800" indent="-406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heological contradictions of theistic evolution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14040" indent="-4050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od’s 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mnipotence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- can create in an instant, does not need eons of tim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14040" indent="-4050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od’s 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ersonality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- “man in His own image”, why wait until the tail end of “geologic time”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14040" indent="-4050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od’s 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mniscience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- fossils indicate extinctions, misfits, and other evidences of “poor planning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14040" indent="-4050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od’s 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ature of love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- “natural selection” is not lovin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14040" indent="-4050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od’s 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urposiveness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- creation and redemption of man.  Why waste billions of years?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14040" indent="-4050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race of God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- struggle for survival, fits with “humanistic” salvation by work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y Theistic Evolution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520" y="213372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ople believe in this “popular” theory because of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n outright disbelief in the Bib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 desire to be intellectually fashionab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he mistaken notion that powerful proof favors evolu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istic Evolution Proble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t is inconsistent with God’s natu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theistic evolution has not been proven to be true: thus theistic evolution canno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 theistic statement which shows theistic evolution to be tru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volution implies atheis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Bible states that God created a fully grown and fully developed man and woman within one day,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Gen. 1:27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istic Evolution Problems (2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ible teaches the first man was Ada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annot explain Ev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annot explain where man acquired his sou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kes Jesus a li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ogically should be able to produce a greater than Jesus Chris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ogically denies the fall [sin] of ma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istic Evolution Problems (3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n was created a moral be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volution teaches that religion “evolved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volution teaches that faith in one God “evolved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Evolution teaches that the grave is the e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eaches that man had no awareness of God until that awareness “evolved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ates that man evolved from lower animal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8377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Other Evolutionist Viewpoin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eistic evolu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od created life and the laws necessary for it to develo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en He left it alone to evolv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antheistic evolu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od is a cosmic force rather than a Pers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od is in everythin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od progresses with evolu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Naturalistic evolu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No supernatur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ll forms of life developed as a result of natural law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gressive Creationis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od created universe via Big Ba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Over billions of years, our solar system formed, resulting in the formation of Eart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iversity of life on Earth is a result of God creating “kinds” of organisms sequentiall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Due to their sequential creation these various “kinds” of organisms appear in the fossil record in the order we observ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 newer species still in existence were “specially” created and not genetically related to the older kind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gressive Creationism -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mantic variant of “theistic evolution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od intervened on various occasions to create something new, i.e. evolution needed some help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od placed an eternal soul in a humanoid form at the proper tim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mplies that God’s creative forethought was insuffici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nvolves discontinuous evolutionary processes initiated by Go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83772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gressive Creationism -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ounds” better than “theistic evolution” (avoids use of word, evolution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Has same theological contradictions as theory of theistic evolu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ppears to be more inconsistent with God’s charac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y seem less offensive to college board, contributing alumni or supporting church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Coral Reef Measuremen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he age of the earth has been tied to the rate of growth of coral for more than a century now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n the March 1997 issue of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ature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, three scientists reported on their work in measuring the growth of living staghorn coral located in the Great Barrier Reef in Austral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sing a precision laser measuring device, they found that coral was growing at the rate of 1.25 inches per yea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nce some coral is more than 2000 feet deep, that leads to an age of the earth of at least 19,200 years old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925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ay–Age The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tempt to accommodate Genesis to ge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nterpret creation so that ages of geology correspond to the history of creation, i.e. days must correspond (more or less) to geologic ag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vents occur in the same order as Genesis 1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55080" indent="-4233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norganic univers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55080" indent="-4233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mple forms of lif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55080" indent="-4233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ore complex forms of lif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55080" indent="-4233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a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But time periods much longer than a day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55080" indent="-4233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2 Pet. 3:8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“… a day is as a thousand years …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925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blems With Day–Age The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-420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roves nothing because assumptions cannot be validat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ust accompany “day-age” with “theistic evolution” or theory of “progressive creation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Unacceptable on exegetical or scientific ground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44640" indent="-41868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roper meaning of “day” and “days” [Hebrew </a:t>
            </a:r>
            <a:r>
              <a:rPr b="0" i="1" lang="en-US" sz="2400" spc="-1" strike="noStrike">
                <a:solidFill>
                  <a:srgbClr val="5b5249"/>
                </a:solidFill>
                <a:latin typeface="Times New Roman"/>
              </a:rPr>
              <a:t>yom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44640" indent="-41868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ontradiction between Genesis and geological ag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44640" indent="-41868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dentification of geological ages with evolutionary sufferin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44640" indent="-41868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Variations of “Day-Age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59040" y="6033960"/>
            <a:ext cx="5763240" cy="39888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 text without a context is a pretext.”, </a:t>
            </a: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Henry Morri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Proper Meaning of “Day”/“Days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brew “yom” does not have to mean a literal day, could mean a “very long time”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 Pet. 3:8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, “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housand years as one day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ranslated as “time” 65 tim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ranslated as “day” 1200 tim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lural translated as “days” 700 tim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iteral meaning is usually be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ther meanings can be gained from the contex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enesis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1 is written very carefully using words/phrases such as “first day”, “second day”, “evening and morning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Proper Meaning of “Day”/“Days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” - 2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hen limiting numeral is used in OT (200 times), it always means literal da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od called the light day, and the darkness night (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en. 1:5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ecludes a geologic ag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Vegetation can’t survive for a geologic age without sunshin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en. 1:14-19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-&gt; divide day from nigh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x. 20:8-11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, fourth commandment “six days, ... seventh day ...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 Pet. 3:8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“a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ex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without a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ontex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is a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etex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Contradictions Between Genesis and Geological Age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04920" y="2362320"/>
          <a:ext cx="8534160" cy="4113000"/>
        </p:xfrm>
        <a:graphic>
          <a:graphicData uri="http://schemas.openxmlformats.org/drawingml/2006/table">
            <a:tbl>
              <a:tblPr/>
              <a:tblGrid>
                <a:gridCol w="4190760"/>
                <a:gridCol w="4343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5b5249"/>
                          </a:solidFill>
                          <a:uFillTx/>
                          <a:latin typeface="Times New Roman"/>
                          <a:ea typeface="Times New Roman"/>
                        </a:rPr>
                        <a:t>Uniformitarianism/Evolution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5b5249"/>
                          </a:solidFill>
                          <a:uFillTx/>
                          <a:latin typeface="Times New Roman"/>
                          <a:ea typeface="Times New Roman"/>
                        </a:rPr>
                        <a:t>Bible/Catastrophism/Creation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Matter existed in the beginning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Matter created by God in the beginning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Sun and stars before the earth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Earth before the sun and star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Contiguous atmosphere/hydrosphere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Atmosphere between two hydrosphere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Land before the ocean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Oceans before the lan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Sun, earth’s first ligh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Light before the sun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Fishes before fruit tree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Fruit trees before fishe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Woman before man (by genetics)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Man before woman (by creation)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Rain before man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Man before rain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Creative” processes still continuing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Creation completed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Identification of Geologic Ages With Evolutionary Suffering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volution is random, wasteful, cru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nconsistent with nature of Go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eological ages provide framework for evolu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eologic systems and epochs are identified on the basis of fossils found in the rock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volution is the basis for interpreting the fossil record, and the fossil record is the basis for establishing and identifying the geologic ag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n example of circular reasoning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od is not the author of confus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What The Bible Says About Suffering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od pronounced it all very good in Gen.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:31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o death and suffering before the fall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en. 3:14-19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“... 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ursed is the ground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...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Rom. 5:12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“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hru one man sin entered, ... so death spread to all men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Rom. 8:20-23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“... 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whole creation groans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...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 Cor. 15:21-22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“... 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by a man came death, for as in Adam all die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...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Rev. 21:4-5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“... 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o longer any death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...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o fossils before the fal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Variations of Day-Age The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teral days separated by large spans of time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34560" indent="-4143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akes “nonsense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Relativistic days – time varies according to theory of relativity – 6 days to God, but billions of years as observed by ma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34560" indent="-4143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enesis creation days have morning and evenin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ays of revelation – 6 days representing 6 days of visions for Moses about the cre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34560" indent="-4143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othing in the record suggests such a thin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ays of proclamation in which creative commands are carried out over long period of tim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34560" indent="-4143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enesis creation days have morning and evenin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925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ap The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p between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en. 1:1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en. 1:2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arth was populated long ago by organisms, that were destroyed and preserved as fossil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ssumes that the geological ages</a:t>
            </a:r>
            <a:br>
              <a:rPr sz="2800"/>
            </a:b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occurred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before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the creation week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ssumes that a cataclysm </a:t>
            </a:r>
            <a:br>
              <a:rPr sz="2800"/>
            </a:b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erminated the geological ag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en. 1:2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: “… the earth was without form and void …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fter a long time, God then proceeded to re-make or re-create the earth in the six literal days described in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en. 1:3-31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6" name="gap-theory" descr=""/>
          <p:cNvPicPr/>
          <p:nvPr/>
        </p:nvPicPr>
        <p:blipFill>
          <a:blip r:embed="rId1"/>
          <a:stretch/>
        </p:blipFill>
        <p:spPr>
          <a:xfrm>
            <a:off x="5943600" y="2438280"/>
            <a:ext cx="2895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925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blems With Gap The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eath before si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55080" indent="-4233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rganic evolution produces deat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he fall of Satan after the geological ag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55080" indent="-4233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en. 1:31 makes clear that Satan had not yet rebelle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cientific problems with the Gap Theo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55080" indent="-4233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o evidence of a monstrous cataclys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Biblical problems with the Gap Theo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55080" indent="-4233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x. 20:11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, “… in six days the Lord made heaven and earth, the sea and all that in them is …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55080" indent="-42336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un needed for life, but not created until 4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day, 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en. 1:14-18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925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Coral Reef “Compromise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 1862, James Dwight Dana presented in his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anual of Geology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that coral grew at about 1/16</a:t>
            </a:r>
            <a:r>
              <a:rPr b="0" lang="en-US" sz="28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th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of an inch per year, resulting in an age of the earth of at least 384,000 years ol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s a result of his studies, Dana vigorously promoted the idea that God took millions of years to bring about His cre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ana was instrumental in converting Yale University from its orthodox Christian foundation to a belief in evolu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gressive Creation, Day-Age &amp; Gap Theori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ll three add information to the text of the Bible to force an interpret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ll three indicate that it takes additional outside sources to understand the Bibl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ll three adopt views from the evolution model to interpret the Bibl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ll three deny the possibility that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od meant what He sai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45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od is capable of performing such a miracle as creation in six literal day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925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-411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ven professing Christians seek to harmonize Scripture with the assumed evolutionary history of the earth and ma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heistic Evolution, Progressive Creation, Day-Age Theory and the Gap Theory all fall short of this go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1480" indent="-411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vowed atheists such as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saac Isamov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, who authored more than 500 books in the field of science was forced to admit in his later years that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24120" indent="-40968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motionally, I am an atheist, I don’t have the evidence to prove that God doesn’t exist, but I so strongly suspect that He doesn’t that I don't want to waste my time.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925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Summary -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6800" indent="-406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Julian Huxley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, grandson of Thomas Huxley, and a leading advocate of the theory of evolution today, spoke these words at the great Darwinian Centennial Convocation in 1959 at the University of Chicago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14040" indent="-40500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arwinism removed the whole idea of God as the creator of organisms from the sphere of rational discussion.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06800" indent="-406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ome treat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enesis 1-11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as allegorical, liturgical, poetic, supra-historic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06800" indent="-406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hese force one to reject Genesis as either scientific or historic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06800" indent="-4068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xpunging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enesis 1-11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cuts out the foundation of the entire Biblical syste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Genesis 1-11 As Literal History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he style of these early chapters of Genesis does not suggest a mythical, allegorical, or poetical approac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his is the view entertained by our Lord Jesus Chris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he inspired writers of the NT not only referred often to the narrative, but made doctrinal arguments which depended upon the historical validity of the Genesis accou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he Bible teaches that the creation of the heavens, the earth, and the inhabitants thereof, was for the glorification of Almighty Go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Genesis 1-11 As Literal History -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uine science has not, does not, and cannot discredit the Genesis version of origi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rchaeological evidences uncovered within recent years tend to corroborate the historical reliability of the Genesis recor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enying the historical accuracy of the Bible in the account of creation leads to a doctrinal position known as modernis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ne who doubts the Genesis account will not be the same man he once w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enesis 1:1 Refutes Man’s False Philosophi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09480" y="1981080"/>
          <a:ext cx="7925040" cy="4572000"/>
        </p:xfrm>
        <a:graphic>
          <a:graphicData uri="http://schemas.openxmlformats.org/drawingml/2006/table">
            <a:tbl>
              <a:tblPr/>
              <a:tblGrid>
                <a:gridCol w="2057400"/>
                <a:gridCol w="586764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hilosophy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Refuted Because: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Atheism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The universe was created by </a:t>
                      </a:r>
                      <a:r>
                        <a:rPr b="0" i="1" lang="en-US" sz="2400" spc="-1" strike="noStrike" u="sng">
                          <a:solidFill>
                            <a:srgbClr val="5b5249"/>
                          </a:solidFill>
                          <a:uFillTx/>
                          <a:latin typeface="Times New Roman"/>
                          <a:ea typeface="Times New Roman"/>
                        </a:rPr>
                        <a:t>God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antheism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God is </a:t>
                      </a:r>
                      <a:r>
                        <a:rPr b="0" i="1" lang="en-US" sz="2400" spc="-1" strike="noStrike" u="sng">
                          <a:solidFill>
                            <a:srgbClr val="5b5249"/>
                          </a:solidFill>
                          <a:uFillTx/>
                          <a:latin typeface="Times New Roman"/>
                          <a:ea typeface="Times New Roman"/>
                        </a:rPr>
                        <a:t>transcendent</a:t>
                      </a:r>
                      <a:r>
                        <a:rPr b="0" lang="en-US" sz="2400" spc="-1" strike="noStrike" u="sng">
                          <a:solidFill>
                            <a:srgbClr val="5b5249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to that which He created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olytheism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5b5249"/>
                          </a:solidFill>
                          <a:uFillTx/>
                          <a:latin typeface="Times New Roman"/>
                          <a:ea typeface="Times New Roman"/>
                        </a:rPr>
                        <a:t>One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God created all things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Materialism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Matter had a </a:t>
                      </a:r>
                      <a:r>
                        <a:rPr b="0" i="1" lang="en-US" sz="2400" spc="-1" strike="noStrike" u="sng">
                          <a:solidFill>
                            <a:srgbClr val="5b5249"/>
                          </a:solidFill>
                          <a:uFillTx/>
                          <a:latin typeface="Times New Roman"/>
                          <a:ea typeface="Times New Roman"/>
                        </a:rPr>
                        <a:t>beginning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Dualism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God was</a:t>
                      </a:r>
                      <a:r>
                        <a:rPr b="0" i="1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2400" spc="-1" strike="noStrike" u="sng">
                          <a:solidFill>
                            <a:srgbClr val="5b5249"/>
                          </a:solidFill>
                          <a:uFillTx/>
                          <a:latin typeface="Times New Roman"/>
                          <a:ea typeface="Times New Roman"/>
                        </a:rPr>
                        <a:t>alone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when He created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Humanism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God, </a:t>
                      </a:r>
                      <a:r>
                        <a:rPr b="0" i="1" lang="en-US" sz="2400" spc="-1" strike="noStrike" u="sng">
                          <a:solidFill>
                            <a:srgbClr val="5b5249"/>
                          </a:solidFill>
                          <a:uFillTx/>
                          <a:latin typeface="Times New Roman"/>
                          <a:ea typeface="Times New Roman"/>
                        </a:rPr>
                        <a:t>not man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, is the ultimate reality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Evolution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God </a:t>
                      </a:r>
                      <a:r>
                        <a:rPr b="0" i="1" lang="en-US" sz="2400" spc="-1" strike="noStrike" u="sng">
                          <a:solidFill>
                            <a:srgbClr val="5b5249"/>
                          </a:solidFill>
                          <a:uFillTx/>
                          <a:latin typeface="Times New Roman"/>
                          <a:ea typeface="Times New Roman"/>
                        </a:rPr>
                        <a:t>created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all things</a:t>
                      </a:r>
                      <a:r>
                        <a:rPr b="0" lang="en-US" sz="24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925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own The Slippery Slope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467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6800" indent="-406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ana was a Yale professor, a respected Christian, and the leading American geologist of his da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06800" indent="-406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merican clergy of his day were swayed by these “facts of science” and started to “correct false dogma in the theological systems.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06800" indent="-406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hus began the sweep of the popular notion of theistic evolution into the Christian mind-se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06800" indent="-4068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cientific results are only as good as the initial assumptions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CWrewritten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381880" cy="4167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925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ich Foundation Do You Trust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925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enesis 1 As Allegoric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ake the account figurative, a-historical, or supra-historical, and ultimately non-descriptiv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his treats the Genesis account as a demythologized poem, sung to the glory of the creator Go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r a cosmology, like many other epic and legendary cosmologies of the da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925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enesis 1 As Historic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cept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en. 1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as a chronological account of something that actually happened in cre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Gen. 1 and 2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offer us correct and satisfactory information concerning prehistoric  tim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t goes beyond the reach of available historical sources and offers not mythical suppositions, not poetical fancies, not vague suggestions, but a positive record of things as they actually transpir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925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ompromising Theori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ny people believe that God used evolution as His means of creating the universe and everything in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umerous attempts have been made to reinterpret the Bible in order to make it compatible with the theory of evolu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he problem is that of TIME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How to get a few billion years into the first chapter of Genesi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02:09:14Z</dcterms:created>
  <dc:creator>Heinz Lycklama</dc:creator>
  <dc:description/>
  <dc:language>en-US</dc:language>
  <cp:lastModifiedBy> </cp:lastModifiedBy>
  <dcterms:modified xsi:type="dcterms:W3CDTF">2005-04-04T03:54:21Z</dcterms:modified>
  <cp:revision>32</cp:revision>
  <dc:subject/>
  <dc:title>Compromising Theories</dc:title>
</cp:coreProperties>
</file>